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063C-5347-483C-A743-C651EFECF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BD04-B8C5-433E-B30A-D5713BD70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AFFD-2349-47D3-8A18-1944F4B5E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6DF8-4E4F-4DE0-98C2-1370C789F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A822-5619-438A-9471-45FC40498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A39F-0BF7-4CB8-B284-B237D65EF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5C99-33E9-4259-8AD0-025BADB19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DE55-7DD1-45D5-8346-48C6BFC53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6FFF-D3F8-4F1F-8C9E-45369079C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709A-8C0B-4314-8934-3E121B388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60C5-4E6A-4E44-AF30-DEA2CFFF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DAB0-2F80-4B58-AB29-8CB7B749F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2070B-EB6D-4A76-A0D4-6223DD57E70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The Class G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Mary Cas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6840" y="1600200"/>
            <a:ext cx="173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winc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corp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sem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o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gull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commu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dock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268000" y="1600200"/>
            <a:ext cx="6551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eople of the same social or economic leve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dopt expression of pa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ouncil hous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emi-detached ho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rd manual 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ube from the throat to the stomac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ravel to and from daily work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abourer who loads and unloads shi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68000" y="1341360"/>
            <a:ext cx="253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full rhy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nternal rhy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sso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conso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843280" y="1341360"/>
            <a:ext cx="619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ame or similar sound between words or the endings of words in lines of poet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hyme involving  a word in the middle of a line of poetry and a word at the end of the same line or in the middle of the nex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ternal rhyme usually centred on vowel sou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currence of consonant sounds in close proximity in lines of poetr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8T20:58:01Z</dcterms:created>
  <dc:creator>Jane Klima</dc:creator>
  <dc:description/>
  <dc:language>en-US</dc:language>
  <cp:lastModifiedBy>Archer, Katy</cp:lastModifiedBy>
  <dcterms:modified xsi:type="dcterms:W3CDTF">2015-01-13T17:05:51Z</dcterms:modified>
  <cp:revision>41</cp:revision>
  <dc:subject/>
  <dc:title>La Belle Dame Sans Merci</dc:title>
</cp:coreProperties>
</file>